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8259-F007-4934-8E43-CF179F4FD7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8212-BD30-49B3-9C8C-5957B64AFB5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68AE-9DBF-42F9-AD04-633470DE214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1B3DE-B077-42B8-B04E-EE2ADCBE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15CEC-DF2E-4109-B612-0CFADA3B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7EFE6-96DB-483D-B64E-DA0651CA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FF9B4-98E7-40B2-BA76-A4D0B742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3A080-A9A4-4A46-A994-7400D21A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C5E11-9B20-4216-AA16-BABDF615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BB126-5E5B-4231-A4C0-B8845E69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6C0DC-F522-4DAE-B2A8-D0DDD778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90C90-3AF2-4D14-9AFE-F2F68B20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83541-E8DF-4141-8CAD-23B21ABE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59C01-D7E7-4890-9FE4-7E1554FF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FB1FE-8DF7-4820-ABED-AFE952E1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6E7FCA-EED8-4FEB-839A-437F9E0B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72204E-C561-4E78-B782-7E3848FF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32377E-409A-4511-8946-8F3BD117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6D1582-682E-4404-982F-42E69B9B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99FC1F-756B-4D2C-9335-265EA0A1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9EB70F-A8D7-459C-ABA4-3DE81B0C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2BC7D6-4FC4-42A4-ABDE-5E406C66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96381A-C31C-483A-B994-186F8E68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F4C18F-601A-4246-9C50-D56A3757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33A42-59A1-47EE-9994-87F7DE3D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7AF671-1768-4B78-9A7E-4FA2D71F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1A046-2436-48E0-A34D-46F5C07C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EF81-5CCF-4C01-A76C-7D588CC5978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9184-A048-4E68-9EE6-0D4DD6F68D6B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C8A3-31AB-4EF1-9194-7F79F40CCEB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3383-9A2E-4846-98BD-271BFA4E54C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E08B-277B-434A-93F1-E53CF2288A7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A615-FAC2-4CF2-9813-B0D8302D6C9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C861-1568-434E-83C2-EC798AD82E4B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8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MMSE-K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5-8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 치매척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5-166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6-167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8-17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옷이나 팔찌에 표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망상에 대비해 예비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8-179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부 내용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79-181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6000"/>
              <a:chOff x="285480" y="642600"/>
              <a:chExt cx="8644320" cy="525600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800"/>
                <a:ext cx="8644320" cy="2683800"/>
                <a:chOff x="285480" y="321480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80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320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에 관한 전문지식 갖춘 상담자가 담당하는 것이 바람직함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572680" cy="1992600"/>
              <a:chOff x="0" y="1139760"/>
              <a:chExt cx="857268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21556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질성 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organic 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2960"/>
            <a:chOff x="0" y="0"/>
            <a:chExt cx="9144000" cy="640296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480"/>
              <a:chOff x="285480" y="857160"/>
              <a:chExt cx="8606160" cy="257148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8720"/>
              <a:chOff x="285480" y="3504240"/>
              <a:chExt cx="8712360" cy="28987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2280"/>
                <a:ext cx="8606880" cy="238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96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APA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나타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800"/>
              <a:ext cx="8715240" cy="5429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0:19:19Z</dcterms:modified>
  <cp:revision>27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